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811-D660-4433-B4B3-D25BA7F6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2EC-04D6-4FBA-A077-601F4FAF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030-70D5-4474-B12B-33F9AB48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C95-58B9-40D8-8BFC-D899FE4E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DFC-4DF7-464D-AF33-303BAD72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FAE-CAA5-44E7-A7E6-C58327C6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703-1713-426B-8ADF-4AE29C5A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3E9-E735-4102-B0CA-7EF68121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AB7-7ED6-4728-BF56-AAC1E3B1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675-F430-4BB2-A18B-0EB60E9E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4B5-9768-49B8-B6B7-1BF9A51A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594-E8B0-409A-9C84-DD7FAC41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F05A-5D49-41B3-B113-570B8F9CA853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62360" y="85867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555040"/>
            <a:ext cx="52513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Law 23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3880" y="2603520"/>
            <a:ext cx="444600" cy="291960"/>
          </a:xfrm>
          <a:prstGeom prst="octagon">
            <a:avLst>
              <a:gd name="adj" fmla="val 2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444600" cy="29232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838080"/>
            <a:ext cx="1676520" cy="38124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advertent call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pause for though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8560" y="14479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295280"/>
            <a:ext cx="15238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de a subsequent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440" y="1219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9480" y="16765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1295280"/>
            <a:ext cx="976320" cy="3049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560" y="120636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320" y="1600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07880" y="1523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295280"/>
            <a:ext cx="1066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tands with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981080"/>
            <a:ext cx="10666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7400" y="2616120"/>
            <a:ext cx="1357200" cy="2793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changes of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4479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008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971800"/>
            <a:ext cx="1434960" cy="546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tended his call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at offender ’s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7280" y="3429000"/>
            <a:ext cx="1517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draw his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822840"/>
            <a:ext cx="1523880" cy="36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4197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160" y="3733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2971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520" y="2895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9680" y="40640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2920" y="32767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4000" y="35686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4000" y="41781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9520" y="3200400"/>
            <a:ext cx="3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5160" y="3505320"/>
            <a:ext cx="334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3920" y="32004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568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3962520"/>
            <a:ext cx="15112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0800" y="45846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048120"/>
            <a:ext cx="1523880" cy="52056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ed before attention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rawn to the infrac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27672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9880" y="3809880"/>
            <a:ext cx="1447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out 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29718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876920"/>
            <a:ext cx="1523880" cy="304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1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257800"/>
            <a:ext cx="596880" cy="29196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2880" y="5257800"/>
            <a:ext cx="596880" cy="291960"/>
          </a:xfrm>
          <a:prstGeom prst="octagon">
            <a:avLst>
              <a:gd name="adj" fmla="val 2416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617220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ust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en next it is his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60" y="48006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280" y="50166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480" y="5245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18120"/>
            <a:ext cx="1282680" cy="2919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159600"/>
            <a:ext cx="1524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952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7074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707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168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16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814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781680"/>
            <a:ext cx="609840" cy="216000"/>
          </a:xfrm>
          <a:custGeom>
            <a:avLst/>
            <a:gdLst>
              <a:gd name="textAreaLeft" fmla="*/ 0 w 609840"/>
              <a:gd name="textAreaRight" fmla="*/ 610200 w 60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6692760"/>
            <a:ext cx="761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6692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31188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65530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720" y="6159600"/>
            <a:ext cx="15112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540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540480"/>
            <a:ext cx="1524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72262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360" y="7683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7315200"/>
            <a:ext cx="151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 no score gr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an average mi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7848720"/>
            <a:ext cx="1517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s the s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hieved at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70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91120" y="7467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6960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7238880"/>
            <a:ext cx="152388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7772400"/>
            <a:ext cx="1523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7238880"/>
            <a:ext cx="16002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777240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324480"/>
            <a:ext cx="0" cy="2210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051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752480"/>
            <a:ext cx="15112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0760" y="2362320"/>
            <a:ext cx="685800" cy="21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81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990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755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495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3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9372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43828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2666880"/>
            <a:ext cx="3810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438280"/>
            <a:ext cx="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762120"/>
            <a:ext cx="1892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director must first dec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case 1 or case 2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1280" y="5651640"/>
            <a:ext cx="152388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651640"/>
            <a:ext cx="151776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 other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including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8291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w 25: Legal and Illegal Changes of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5:29:55Z</dcterms:created>
  <dc:creator>Laval Dubreuil</dc:creator>
  <dc:description/>
  <dc:language>en-US</dc:language>
  <cp:lastModifiedBy>Per Nordland</cp:lastModifiedBy>
  <dcterms:modified xsi:type="dcterms:W3CDTF">2002-07-14T21:50:26Z</dcterms:modified>
  <cp:revision>3</cp:revision>
  <dc:subject/>
  <dc:title>Présentation PowerPoint</dc:title>
</cp:coreProperties>
</file>