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EB30-0164-4616-AEED-B1E70B5B6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8427-DA7A-4956-823D-72CD79BF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8C6F-F27E-4E9B-81DB-3F1756ADB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9D77-B64E-45CF-9065-775CB9DA1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5641-8406-4488-A810-EA6840C9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FD37-08AF-4957-B1C6-EC1F6CD9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D3EA-3E77-4B06-A455-744F0CF8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4629-3F01-458A-9056-91E4FECB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ED99-A40D-4EF9-B188-CB4BE8DA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C9B6-3AC1-4989-819D-9BED820F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3C39-6F66-438C-AFE6-DF769C12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9B27-F7D3-453E-8457-F2D534E6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A227-F217-42B7-BF25-7C72DCA783D6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cbl.org/info/laws97/node8.html#law26" TargetMode="External"/><Relationship Id="rId2" Type="http://schemas.openxmlformats.org/officeDocument/2006/relationships/hyperlink" Target="http://www.acbl.org/info/laws97/node8.html#law25" TargetMode="External"/><Relationship Id="rId3" Type="http://schemas.openxmlformats.org/officeDocument/2006/relationships/hyperlink" Target="http://www.acbl.org/info/laws97/node8.html#law25" TargetMode="External"/><Relationship Id="rId4" Type="http://schemas.openxmlformats.org/officeDocument/2006/relationships/hyperlink" Target="http://www.acbl.org/info/laws97/node8.html#law23" TargetMode="External"/><Relationship Id="rId5" Type="http://schemas.openxmlformats.org/officeDocument/2006/relationships/hyperlink" Target="http://www.acbl.org/info/laws97/node8.html#law26" TargetMode="External"/><Relationship Id="rId6" Type="http://schemas.openxmlformats.org/officeDocument/2006/relationships/slide" Target=""/><Relationship Id="rId7" Type="http://schemas.openxmlformats.org/officeDocument/2006/relationships/hyperlink" Target="http://www.acbl.org/info/laws97/node7.html#law16" TargetMode="External"/><Relationship Id="rId8" Type="http://schemas.openxmlformats.org/officeDocument/2006/relationships/hyperlink" Target="http://www.acbl.org/info/laws97/node8.html#law31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cbl.org/info/laws97/node9.html#law50" TargetMode="External"/><Relationship Id="rId2" Type="http://schemas.openxmlformats.org/officeDocument/2006/relationships/hyperlink" Target="http://www.acbl.org/info/laws97/node7.html#law16" TargetMode="External"/><Relationship Id="rId3" Type="http://schemas.openxmlformats.org/officeDocument/2006/relationships/hyperlink" Target="http://www.acbl.org/info/laws97/node9.html#law43" TargetMode="External"/><Relationship Id="rId4" Type="http://schemas.openxmlformats.org/officeDocument/2006/relationships/hyperlink" Target="http://www.acbl.org/info/laws97/node7.html#law16" TargetMode="External"/><Relationship Id="rId5" Type="http://schemas.openxmlformats.org/officeDocument/2006/relationships/hyperlink" Target="http://www.acbl.org/info/laws97/node7.html#law12" TargetMode="External"/><Relationship Id="rId6" Type="http://schemas.openxmlformats.org/officeDocument/2006/relationships/hyperlink" Target="http://www.acbl.org/info/laws97/node7.html#law12" TargetMode="External"/><Relationship Id="rId7" Type="http://schemas.openxmlformats.org/officeDocument/2006/relationships/hyperlink" Target="http://www.acbl.org/info/laws97/node9.html#law62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62360" y="858672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8555040"/>
            <a:ext cx="525132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cording to Law 23, director may adjust score if a mandatory Pass damages non-offe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ide, and he deems that the offender could have known this at the time of the irregularit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23880" y="2603520"/>
            <a:ext cx="444600" cy="291960"/>
          </a:xfrm>
          <a:prstGeom prst="octagon">
            <a:avLst>
              <a:gd name="adj" fmla="val 2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838080"/>
            <a:ext cx="444600" cy="29232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838080"/>
            <a:ext cx="1676520" cy="38124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nadvertent call correc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ithout pause for thought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28560" y="144792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295280"/>
            <a:ext cx="1523880" cy="3812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offender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de a subsequent cal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440" y="12193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99480" y="167652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76560" y="1295280"/>
            <a:ext cx="976320" cy="3049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s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leg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3560" y="120636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320" y="16002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07880" y="15238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1295280"/>
            <a:ext cx="10666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tands with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enal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981080"/>
            <a:ext cx="106668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applic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law preva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57400" y="2616120"/>
            <a:ext cx="1357200" cy="27936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ther changes of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144792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1447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1600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10080" y="22096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2971800"/>
            <a:ext cx="1434960" cy="5461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ntended his call 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hat offender ’s cal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67280" y="3429000"/>
            <a:ext cx="15177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LHO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ithdraw his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3822840"/>
            <a:ext cx="1523880" cy="3682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Does 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cept 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4419720"/>
            <a:ext cx="15238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is cancel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160" y="37339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160" y="29718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520" y="289548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99680" y="406404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02920" y="327672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84000" y="356868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84000" y="417816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9520" y="3200400"/>
            <a:ext cx="308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65160" y="3505320"/>
            <a:ext cx="334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63920" y="3200400"/>
            <a:ext cx="6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9568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67280" y="3962520"/>
            <a:ext cx="15112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00800" y="4584600"/>
            <a:ext cx="685800" cy="216000"/>
          </a:xfrm>
          <a:custGeom>
            <a:avLst/>
            <a:gdLst>
              <a:gd name="textAreaLeft" fmla="*/ 0 w 685800"/>
              <a:gd name="textAreaRight" fmla="*/ 686160 w 6858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41" y="0"/>
                </a:lnTo>
                <a:lnTo>
                  <a:pt x="21600" y="10800"/>
                </a:lnTo>
                <a:lnTo>
                  <a:pt x="164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3048120"/>
            <a:ext cx="1523880" cy="52056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lled before attention 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drawn to the infracti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3276720"/>
            <a:ext cx="6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09880" y="3809880"/>
            <a:ext cx="144792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st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ithout penal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67280" y="2971800"/>
            <a:ext cx="1523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st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876920"/>
            <a:ext cx="1523880" cy="3045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as 1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ll leg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257800"/>
            <a:ext cx="596880" cy="29196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92880" y="5257800"/>
            <a:ext cx="596880" cy="291960"/>
          </a:xfrm>
          <a:prstGeom prst="octagon">
            <a:avLst>
              <a:gd name="adj" fmla="val 2416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90920" y="6172200"/>
            <a:ext cx="16002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ust p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hen next it is his tu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5168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2680" y="5168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160" y="48006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5280" y="501660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90480" y="52452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5118120"/>
            <a:ext cx="1282680" cy="29196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offend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60706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60706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6159600"/>
            <a:ext cx="15242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idding proc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49528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60069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7074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60069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7074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5168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5168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4952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518148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6781680"/>
            <a:ext cx="609840" cy="216000"/>
          </a:xfrm>
          <a:custGeom>
            <a:avLst/>
            <a:gdLst>
              <a:gd name="textAreaLeft" fmla="*/ 0 w 609840"/>
              <a:gd name="textAreaRight" fmla="*/ 610200 w 6098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41" y="0"/>
                </a:lnTo>
                <a:lnTo>
                  <a:pt x="21600" y="10800"/>
                </a:lnTo>
                <a:lnTo>
                  <a:pt x="164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6692760"/>
            <a:ext cx="7617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66927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6311880"/>
            <a:ext cx="2286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655308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74720" y="6159600"/>
            <a:ext cx="1511280" cy="39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applic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law preva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6540480"/>
            <a:ext cx="1600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6540480"/>
            <a:ext cx="15242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72262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76360" y="76834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76360" y="714996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7315200"/>
            <a:ext cx="1517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ing side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ceive no score grea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an average min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7848720"/>
            <a:ext cx="151776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n-offending 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ceives the s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hieved at 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37040" y="8242200"/>
            <a:ext cx="596880" cy="216000"/>
          </a:xfrm>
          <a:custGeom>
            <a:avLst/>
            <a:gdLst>
              <a:gd name="textAreaLeft" fmla="*/ 0 w 596880"/>
              <a:gd name="textAreaRight" fmla="*/ 597240 w 5968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7620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191120" y="7467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8153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76960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714996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7238880"/>
            <a:ext cx="1523880" cy="38124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ecomes a de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7772400"/>
            <a:ext cx="1523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ve a lead pen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08240" y="8242200"/>
            <a:ext cx="596880" cy="216000"/>
          </a:xfrm>
          <a:custGeom>
            <a:avLst/>
            <a:gdLst>
              <a:gd name="textAreaLeft" fmla="*/ 0 w 596880"/>
              <a:gd name="textAreaRight" fmla="*/ 597240 w 5968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8153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7620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7238880"/>
            <a:ext cx="1600200" cy="38124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ecomes a de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7772400"/>
            <a:ext cx="1600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ve a lead pen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6324480"/>
            <a:ext cx="0" cy="22100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905120"/>
            <a:ext cx="15238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l st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1752480"/>
            <a:ext cx="151128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90760" y="2362320"/>
            <a:ext cx="685800" cy="215640"/>
          </a:xfrm>
          <a:custGeom>
            <a:avLst/>
            <a:gdLst>
              <a:gd name="textAreaLeft" fmla="*/ 0 w 685800"/>
              <a:gd name="textAreaRight" fmla="*/ 686160 w 6858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41" y="0"/>
                </a:lnTo>
                <a:lnTo>
                  <a:pt x="21600" y="10800"/>
                </a:lnTo>
                <a:lnTo>
                  <a:pt x="164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08120" y="4648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2286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9907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7558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91320" y="4495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3276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91320" y="3809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93720" y="358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9372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2438280"/>
            <a:ext cx="2057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2666880"/>
            <a:ext cx="3810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2438280"/>
            <a:ext cx="0" cy="2286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95680" y="762120"/>
            <a:ext cx="18925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director must first dec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case 1 or case 2 appl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81280" y="5651640"/>
            <a:ext cx="1523880" cy="36828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 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l st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5651640"/>
            <a:ext cx="1517760" cy="36828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ke an other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(including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40384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228600"/>
            <a:ext cx="58291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582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Law 25: Legal and Illegal Changes of Call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962520" y="5270400"/>
            <a:ext cx="596880" cy="228600"/>
          </a:xfrm>
          <a:prstGeom prst="octagon">
            <a:avLst>
              <a:gd name="adj" fmla="val 2760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35120" y="5270400"/>
            <a:ext cx="596880" cy="228600"/>
          </a:xfrm>
          <a:prstGeom prst="octagon">
            <a:avLst>
              <a:gd name="adj" fmla="val 2760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7040" y="3289320"/>
            <a:ext cx="334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41403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41403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397512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2768760"/>
            <a:ext cx="1143000" cy="291960"/>
          </a:xfrm>
          <a:prstGeom prst="octagon">
            <a:avLst>
              <a:gd name="adj" fmla="val 1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hos tur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81080" y="3759120"/>
            <a:ext cx="1143000" cy="216000"/>
          </a:xfrm>
          <a:prstGeom prst="octagon">
            <a:avLst>
              <a:gd name="adj" fmla="val 1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R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3759120"/>
            <a:ext cx="1136520" cy="216000"/>
          </a:xfrm>
          <a:prstGeom prst="octagon">
            <a:avLst>
              <a:gd name="adj" fmla="val 1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3759120"/>
            <a:ext cx="1066680" cy="216000"/>
          </a:xfrm>
          <a:prstGeom prst="octagon">
            <a:avLst>
              <a:gd name="adj" fmla="val 1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8240" y="4673520"/>
            <a:ext cx="1060560" cy="216000"/>
          </a:xfrm>
          <a:prstGeom prst="octagon">
            <a:avLst>
              <a:gd name="adj" fmla="val 1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HO now P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79840" y="4673520"/>
            <a:ext cx="1434960" cy="216000"/>
          </a:xfrm>
          <a:prstGeom prst="octagon">
            <a:avLst>
              <a:gd name="adj" fmla="val 1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HO now bids, X or 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45086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5727600"/>
            <a:ext cx="1289160" cy="901800"/>
          </a:xfrm>
          <a:prstGeom prst="octagon">
            <a:avLst>
              <a:gd name="adj" fmla="val 1492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, when h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urn to call,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peat denomi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 the out of turn b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t any legal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30560" y="5727600"/>
            <a:ext cx="1206360" cy="914400"/>
          </a:xfrm>
          <a:prstGeom prst="octagon">
            <a:avLst>
              <a:gd name="adj" fmla="val 1492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, when h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urn to call,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ke a bid in 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ther denominati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ass, X or 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8102520"/>
            <a:ext cx="596880" cy="216000"/>
          </a:xfrm>
          <a:custGeom>
            <a:avLst/>
            <a:gdLst>
              <a:gd name="textAreaLeft" fmla="*/ 0 w 596880"/>
              <a:gd name="textAreaRight" fmla="*/ 597240 w 5968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aw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9000" y="740412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89000" y="793764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67816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29200" y="67564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679464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160" y="518148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4127400"/>
            <a:ext cx="1066680" cy="3812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of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reviously call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58760" y="405144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58960" y="1536840"/>
            <a:ext cx="1663560" cy="3744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offender ’s LHO cal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fter the out of turn bi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35120" y="175896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3880" y="17524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120" y="14479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2146320"/>
            <a:ext cx="1663920" cy="3808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Does 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cept the out of turn bid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236844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36280" y="25146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93360" y="236232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8600" y="20574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2755800"/>
            <a:ext cx="152388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uction reverts to p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hos turn it was to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76520" y="1917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2146320"/>
            <a:ext cx="1295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idding proc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(no penalt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52120" y="190512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2755800"/>
            <a:ext cx="13716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out of tu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id is cancel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32893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62320" y="3365640"/>
            <a:ext cx="444240" cy="22860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3400" y="3365640"/>
            <a:ext cx="444600" cy="22860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3365640"/>
            <a:ext cx="444600" cy="22860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4280040"/>
            <a:ext cx="609840" cy="22860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4280040"/>
            <a:ext cx="609840" cy="22860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1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8240" y="6121440"/>
            <a:ext cx="113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, when h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urn to call, mu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peat his b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6870600"/>
            <a:ext cx="11430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no restri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70200" y="6870600"/>
            <a:ext cx="128268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ust pass when n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t is his turn to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24080" y="6870600"/>
            <a:ext cx="121284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ust pass whene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t is his turn to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29200" y="42800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70400" y="6121440"/>
            <a:ext cx="12067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, when h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urn to call,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ke any legal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64280" y="6870600"/>
            <a:ext cx="121284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ust pass whene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t is his turn to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17600" y="7480440"/>
            <a:ext cx="1212840" cy="36828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ecomes a de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16160" y="8013600"/>
            <a:ext cx="1212840" cy="330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ve a lead pen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4508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4889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29000" y="48895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71600" y="41274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3975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90920" y="35942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3975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35942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43600" y="35942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54480" y="664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27440" y="664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2527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290844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14800" y="29084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306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32893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32893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43600" y="32893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28840" y="428004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1280" y="44956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43400" y="4813200"/>
            <a:ext cx="685800" cy="216000"/>
          </a:xfrm>
          <a:custGeom>
            <a:avLst/>
            <a:gdLst>
              <a:gd name="textAreaLeft" fmla="*/ 0 w 685800"/>
              <a:gd name="textAreaRight" fmla="*/ 686160 w 6858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La</a:t>
            </a:r>
            <a:r>
              <a:rPr b="0" lang="fr-CA" sz="1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 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45086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27440" y="7861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8458200"/>
            <a:ext cx="525780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cording to </a:t>
            </a:r>
            <a:r>
              <a:rPr b="0" lang="fr-CA" sz="1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Law 23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, director may adjust score if a mandatory Pass damages non-offe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ide, and he deems that the offender could have known this at the time of the irregularit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7391520"/>
            <a:ext cx="0" cy="10666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5270400"/>
            <a:ext cx="1371600" cy="38124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s the out of turn call 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onventionnal Pass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565164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664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35880" y="54100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240" y="565164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00400" y="1523880"/>
            <a:ext cx="1295280" cy="38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idding proc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(no penalt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64280" y="7480440"/>
            <a:ext cx="1212840" cy="36828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ecomes a de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64280" y="8013600"/>
            <a:ext cx="1212840" cy="330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ve a lead pen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43600" y="7861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43600" y="664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52880" y="7099200"/>
            <a:ext cx="3049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27440" y="74041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43600" y="74041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29200" y="740412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33720" y="542304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19520" y="519444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19520" y="519444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67080" y="519444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19520" y="5499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67080" y="5499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29000" y="7099200"/>
            <a:ext cx="2286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44560" y="774720"/>
            <a:ext cx="1663560" cy="5205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Did an </a:t>
            </a:r>
            <a:r>
              <a:rPr b="1" lang="fr-CA" sz="1000" spc="-1" strike="noStrike">
                <a:solidFill>
                  <a:srgbClr val="000000"/>
                </a:solidFill>
                <a:latin typeface="Arial"/>
              </a:rPr>
              <a:t>opponent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, wh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urn it was, call af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out of rotation bid?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5080" y="6858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8242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572000" y="8089920"/>
            <a:ext cx="596880" cy="216000"/>
          </a:xfrm>
          <a:custGeom>
            <a:avLst/>
            <a:gdLst>
              <a:gd name="textAreaLeft" fmla="*/ 360 w 596880"/>
              <a:gd name="textAreaRight" fmla="*/ 597600 w 5968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349" y="0"/>
                </a:lnTo>
                <a:lnTo>
                  <a:pt x="21600" y="10800"/>
                </a:lnTo>
                <a:lnTo>
                  <a:pt x="153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Law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6" action="ppaction://hlinksldjump"/>
              </a:rPr>
              <a:t>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81480" y="8242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76520" y="1295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120" y="129528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990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762120"/>
            <a:ext cx="1295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out of tu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id is cancel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768240"/>
            <a:ext cx="1295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idding proc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(no penalt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76920" y="1523880"/>
            <a:ext cx="14349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out of turn b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257800" y="2146320"/>
            <a:ext cx="685800" cy="216000"/>
          </a:xfrm>
          <a:custGeom>
            <a:avLst/>
            <a:gdLst>
              <a:gd name="textAreaLeft" fmla="*/ 0 w 685800"/>
              <a:gd name="textAreaRight" fmla="*/ 686160 w 6858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41" y="0"/>
                </a:lnTo>
                <a:lnTo>
                  <a:pt x="21600" y="10800"/>
                </a:lnTo>
                <a:lnTo>
                  <a:pt x="164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62720" y="2070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38680" y="1295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146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13880" y="10666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24120" y="87948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582948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Law 31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: Bid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(or conventionnal pass)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Out of 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14440" y="8337600"/>
            <a:ext cx="1428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43240" y="8337600"/>
            <a:ext cx="2171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8240" y="2673360"/>
            <a:ext cx="1670040" cy="52704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either member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ing side named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layed to the nex trick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55760" y="2108160"/>
            <a:ext cx="97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82840" y="4737240"/>
            <a:ext cx="2660760" cy="36828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ow many tricks were won by offe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ide, including revoke and subsequent tricks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84560" y="4446720"/>
            <a:ext cx="311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30560" y="5423040"/>
            <a:ext cx="520560" cy="444240"/>
          </a:xfrm>
          <a:prstGeom prst="octagon">
            <a:avLst>
              <a:gd name="adj" fmla="val 2580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84800" y="5423040"/>
            <a:ext cx="520560" cy="444240"/>
          </a:xfrm>
          <a:prstGeom prst="octagon">
            <a:avLst>
              <a:gd name="adj" fmla="val 2580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62520" y="5423040"/>
            <a:ext cx="520560" cy="444240"/>
          </a:xfrm>
          <a:prstGeom prst="octagon">
            <a:avLst>
              <a:gd name="adj" fmla="val 2580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5867280"/>
            <a:ext cx="0" cy="2121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60960" y="5867280"/>
            <a:ext cx="0" cy="2121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44760" y="6458040"/>
            <a:ext cx="749160" cy="215640"/>
          </a:xfrm>
          <a:custGeom>
            <a:avLst/>
            <a:gdLst>
              <a:gd name="textAreaLeft" fmla="*/ 0 w 749160"/>
              <a:gd name="textAreaRight" fmla="*/ 749520 w 7491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aw 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7988400"/>
            <a:ext cx="520560" cy="444240"/>
          </a:xfrm>
          <a:prstGeom prst="octagon">
            <a:avLst>
              <a:gd name="adj" fmla="val 2580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8007480"/>
            <a:ext cx="520560" cy="444240"/>
          </a:xfrm>
          <a:prstGeom prst="octagon">
            <a:avLst>
              <a:gd name="adj" fmla="val 2580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130560" y="8007480"/>
            <a:ext cx="520560" cy="444240"/>
          </a:xfrm>
          <a:prstGeom prst="octagon">
            <a:avLst>
              <a:gd name="adj" fmla="val 2580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38800" y="5546880"/>
            <a:ext cx="108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92720" y="6464160"/>
            <a:ext cx="24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21320" y="6469200"/>
            <a:ext cx="0" cy="13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71480" y="619776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62360" y="665496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95320" y="723888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27600" y="6216480"/>
            <a:ext cx="1359000" cy="41292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A" sz="1000" spc="-1" strike="noStrike">
                <a:solidFill>
                  <a:srgbClr val="000000"/>
                </a:solidFill>
                <a:latin typeface="Arial"/>
              </a:rPr>
              <a:t>Offender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(not partn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on the revoke trick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5262480"/>
            <a:ext cx="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83240" y="5262480"/>
            <a:ext cx="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2280" y="199404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26880" y="46483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1640" y="612144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71640" y="68580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000" y="762012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8240" y="3435480"/>
            <a:ext cx="1670040" cy="52056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either member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ing side ma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r accepted a claim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8240" y="2082960"/>
            <a:ext cx="1670040" cy="27936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as revoke on 1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trick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8240" y="4203720"/>
            <a:ext cx="16700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voke  is not establish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78280" y="2057400"/>
            <a:ext cx="1511280" cy="38088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re all 4 hands 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n the boar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056200" y="3124080"/>
            <a:ext cx="14349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e may not choose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lay possib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uggested by the revo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71800" y="2679840"/>
            <a:ext cx="1517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ricks stand as play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 revoke penalty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8240" y="4406760"/>
            <a:ext cx="1670040" cy="39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 must corr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revo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8240" y="5029200"/>
            <a:ext cx="1670040" cy="46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rds played after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voke may be replac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23880" y="4800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2280" y="334008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2280" y="25909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68400" y="198108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038480" y="3662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440800" y="223524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440800" y="364500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40800" y="28828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736080" y="24382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84000" y="234936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84000" y="394956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84000" y="31878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79480" y="219708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95280" y="7785000"/>
            <a:ext cx="1752840" cy="749520"/>
          </a:xfrm>
          <a:prstGeom prst="rightArrow">
            <a:avLst>
              <a:gd name="adj1" fmla="val 50000"/>
              <a:gd name="adj2" fmla="val 5803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umber of tricks transferred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o non-offending 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19520" y="2887560"/>
            <a:ext cx="0" cy="770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56200" y="2057400"/>
            <a:ext cx="14349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voke must 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orrec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56200" y="2654280"/>
            <a:ext cx="1434960" cy="31752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 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n play 2 legal c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00600" y="259092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120" y="6242040"/>
            <a:ext cx="15937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ll cards exposed 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offending side 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jor penalty c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23880" y="5499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23880" y="6019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2640" y="621036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35520" y="24382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48120" y="367020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66680" y="782964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8240" y="5715000"/>
            <a:ext cx="1670040" cy="30492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 is a de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2640" y="563868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74720" y="7067520"/>
            <a:ext cx="1587600" cy="55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u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exposed c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523880" y="685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438280" y="7130880"/>
            <a:ext cx="749520" cy="216000"/>
          </a:xfrm>
          <a:custGeom>
            <a:avLst/>
            <a:gdLst>
              <a:gd name="textAreaLeft" fmla="*/ 0 w 749520"/>
              <a:gd name="textAreaRight" fmla="*/ 749880 w 7495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33920" y="243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4343400"/>
            <a:ext cx="1511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rick stands as play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76720" y="4038480"/>
            <a:ext cx="15112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t may no lon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e correc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276720" y="3809880"/>
            <a:ext cx="1511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voke is establish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791320" y="7835760"/>
            <a:ext cx="630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21120" y="304812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95680" y="2209680"/>
            <a:ext cx="554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38280" y="2209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3880" y="2374920"/>
            <a:ext cx="1800" cy="29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23880" y="39751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932360" y="4127400"/>
            <a:ext cx="782640" cy="216000"/>
          </a:xfrm>
          <a:custGeom>
            <a:avLst/>
            <a:gdLst>
              <a:gd name="textAreaLeft" fmla="*/ 0 w 782640"/>
              <a:gd name="textAreaRight" fmla="*/ 783000 w 782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Law 43B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80080" y="42163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429000" y="52578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60960" y="5105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260960" y="5257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8480" y="458460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62720" y="76201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120" y="1460520"/>
            <a:ext cx="1676160" cy="38088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a member of offe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ide called on the next de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23880" y="1841400"/>
            <a:ext cx="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2400" y="13842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38280" y="1600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2720" y="5867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523880" y="3200400"/>
            <a:ext cx="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15000" y="2971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2120" y="838080"/>
            <a:ext cx="1676160" cy="38124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as attention drawn af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round has end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38280" y="990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3160" y="7621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23880" y="1219320"/>
            <a:ext cx="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84000" y="18288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599840" y="121932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440800" y="160020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61600" y="990720"/>
            <a:ext cx="414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438280" y="28954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3828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10080" y="3733920"/>
            <a:ext cx="762120" cy="215640"/>
          </a:xfrm>
          <a:custGeom>
            <a:avLst/>
            <a:gdLst>
              <a:gd name="textAreaLeft" fmla="*/ 0 w 762120"/>
              <a:gd name="textAreaRight" fmla="*/ 762480 w 7621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1500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00600" y="838080"/>
            <a:ext cx="166356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 penalty is assessed f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revoke by the s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layer in the same suit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or failure to play any faced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rd, including dummy ’s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362320" y="724536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362320" y="655956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2280" y="8564400"/>
            <a:ext cx="5632200" cy="42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* Director shall assign an adjusted score (see </a:t>
            </a:r>
            <a:r>
              <a:rPr b="0" lang="fr-CA" sz="1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Law </a:t>
            </a:r>
            <a:r>
              <a:rPr b="0" lang="fr-CA" sz="1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12C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) when he deems that after any establish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voke, including those not subject to penalty, the non offending side is insufficiently compensa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838080"/>
            <a:ext cx="1517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ricks stand as play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 revoke penalty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971800" y="1447920"/>
            <a:ext cx="1517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ricks stand as play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 revoke penalty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00600" y="6934320"/>
            <a:ext cx="1523880" cy="672840"/>
          </a:xfrm>
          <a:prstGeom prst="roundRect">
            <a:avLst>
              <a:gd name="adj" fmla="val 1238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 made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ubsequent trick with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rd that could have be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layed to the revoke trick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4419720" y="72388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19720" y="72388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62720" y="6629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289200" y="8794800"/>
            <a:ext cx="391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Laws 62 to 64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: The Revo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2T21:43:16Z</dcterms:created>
  <dc:creator>Infocentre</dc:creator>
  <dc:description/>
  <dc:language>en-US</dc:language>
  <cp:lastModifiedBy>Per Nordland</cp:lastModifiedBy>
  <dcterms:modified xsi:type="dcterms:W3CDTF">2002-07-14T21:50:09Z</dcterms:modified>
  <cp:revision>13</cp:revision>
  <dc:subject/>
  <dc:title>Aucun titre de diaposit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Mes documents\Laval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