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961-05B8-47EC-A3A5-3F74BB2D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12D-5092-4D28-AF80-CA85D2D9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ED5-3D66-4378-9F0E-A61F23D4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767-97A0-4750-AC7C-3A0E6296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424D-C1EE-40D6-B927-5241E16C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DA0C-F953-4F5E-BB86-F9E5302E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5859-E368-4760-A6E1-BFAE3424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B437-B033-414B-96D7-9E1E923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43BB-5DD0-41D2-8D4E-2B3A261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526F-6A4F-4F92-AF41-2C471966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F9A6-79EB-4054-AA78-19DEC612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23A-5011-499D-A6DC-DE2096C2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40DB-F926-46C3-A2D2-B8373FB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DBFF-1066-41F7-87B2-5F7A7BD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B88C-0E8C-4CA7-B216-25511EB0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0E15-9C1C-4E39-83DB-45BDD45F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419A-3A1B-4672-BEB9-A94B3AD0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1CD-33B1-41ED-AF4F-C7E84D43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049-60B6-44B5-AD34-9B3D8A50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1B7-66B8-4ADE-BCE6-4EB9A4B0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D74-AD55-4A7A-907E-47533A57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853-EA69-4445-ABBC-6377037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192-9A58-41CB-AD7D-27139E9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8D1-26FC-444D-B2EB-AE8DBD6D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7A2-597B-4581-ABB5-014FB0EB6F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CD15-A7A6-40A7-96CA-22C06FD09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3A77-460C-46EC-9C8C-4914B894C4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9926-A4AE-4B6F-B2BE-92E6CE44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 med 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g litt om bruken av de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B25A-1968-48FC-B271-F42497037F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97481AF-F61B-4393-A06E-F2376DF93E3F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programmer under Window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an ha skriverproble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viklet i Microsof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Dansk programpakke for DOS/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løver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Windowsbasert for 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xcelbaserte programmer for mindre 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C80-5076-40CC-A58D-6E3FF9E2EACF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51137-E3DE-44AF-BBD4-57E3BC4C831C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ar , Laserbar,  Filbar, Blekkb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, slipper, resultatslipper, stensil HTML filer o.s.v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Monrad, Lasermon, Film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nradturner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amme service som i barometerturnering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A9C-87B5-4EB2-804E-F3622D9287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82F93-5600-426B-924E-A77520450F21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r opp lagse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beregnes som kvoti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ehersker Monrad med 1 eller flere mø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er summen av motstandernes poeng mot and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utoscore av vinnerpoe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71F-D45A-4242-ABC8-8FF4A667C4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FC805-8653-47AE-9621-4044FEC2D6C9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K 2000 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(Bull-Gulbrandsen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rogrampakke bygget i Microsoft Access som tar sikte på å bli en komplett pakk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arometer, Monrad og frie opps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dlemslister fra NB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sterpoe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coring fra grensesnitt pr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Neuberg’s forme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littet sco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Fullført programpakken vil dekke alle behov innen turneringsregnskap og registrering av MP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FDD-30FC-428D-9DDD-69D13C2AA8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49E76-8579-4F86-9A44-366F8CBA2730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horvald Aagårds programpakk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S-basert og arbeider under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leksibelt ved at operatøren setter opp alle aktuelle beveg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Lag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lle typer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nge aktuelle scoringsmetod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Sven Pran har utviklet et program for oppsett av singelturneringer i programme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enne gratis programpakken brukes til øvingsoppgavene i dette kurs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9E3-581F-4C61-BDF1-8E275FB04E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DAEED-DCE3-4245-82DB-741C0E4DFF09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ndowsbasert program for Barometerturneri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asting fra flere mask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ode rutiner for korri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E6B-3EB0-4259-94C7-CB78054134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C7514-A661-4E03-B1CC-CF91A888DF3A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Jan Henriksen (Bridgehuset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xcelprogrammer som skriver på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Lag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Tabelloppsett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som NBF s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5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6 spill pr ru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owell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2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av slipper og plansj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Opptil 15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 og slipper</a:t>
            </a:r>
            <a:br>
              <a:rPr sz="2000"/>
            </a:b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inge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nntil 48 spille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esialutgave med 48-120 spil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226-3DB7-49BA-96CA-75A1FD55DD9D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7C816-4208-4B5A-8DCE-70C9CDE2AE69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9-18T20:10:36Z</dcterms:modified>
  <cp:revision>5</cp:revision>
  <dc:subject/>
  <dc:title>Turneringsregnskap</dc:title>
</cp:coreProperties>
</file>