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9FC-2DE1-4A52-8948-2431F27F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4A8-FC3B-4863-A4D2-38CEAF18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439-69C8-4088-8D8F-E34C8F4B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ACE-D563-412E-B033-5A7A91D5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A0F-4F33-46B5-AE49-F3E3109F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B61E-7E8D-466A-964F-3D7F5DA2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2869-DDC8-49DD-9EE9-C19355DE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A48B-94AB-4597-8E87-1027779F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E392-0081-46AF-B210-6DFEF379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5C7A-B570-4BEB-BE03-047D7203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328D-BE70-4EB3-9706-87B03237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390-4595-4A08-97B4-8923B1D7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1DC2-EE62-4B5E-944D-EBD66505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29B4-C1BF-4EE9-8AEE-A49F55D8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2576-BAE2-4226-9AB6-56BE75B6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B4E6-1ADC-423F-BE46-9A37D188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A1E7-C99F-4D73-A965-C177A1AF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572-CDEE-4407-A62C-3084872E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662-1EBF-42C9-9B53-E9964C30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4A5-6005-40EE-B0CA-CDFCAAF1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D7E-9F9B-485A-AF37-4DD97B01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6E4-C09C-42E3-A094-2C2A1464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62B-D41D-4021-855A-EFF8E468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824-E1EE-44A7-9E56-EC814838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. januar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 Nord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EADB-0AB4-46FE-A0A9-992F8060D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. januar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 Nord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1713-C3DB-46A5-A844-B02F276E9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regnskap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ataprogrammer som tilbys i Nor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NBF - 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Windowsbasert parturnerings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lle utregningsmåter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ontakt med NBF medlemsregis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erieturner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ie oppsett av turner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enytter standard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Lager HTML fi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idgehuset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n programserie i Excel 95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ien er basert på behovene i en klu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ll og se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rdplansjer og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til 16 B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beller, oppsett, lister for forskjellige spillant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uke datasyste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nfigurere utstyr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kre at printer, program og maskin virker sam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uder bruksanvis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unne normalbru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gge inn navn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krive ut plansjer og list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age slipp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gge ut resultat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unne rettingsrutin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jenne noen som kan hjelpe i en vanskelig situasj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orbrukeren blir ”ekspe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 sikkerhetskop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orberedelser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ge inn nav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ge inn giv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ge plansj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krive ut sli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jennomfø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scoring når første bord er ferdi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krive ut og dele ut resultater etter hver ru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rrigere fe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ffentliggjøre sluttresultaten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tt inn svansebord (1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an bare brukes ved et bord der ikke er et par som sit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t svansebord gir 2 ekstra sittep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vansebordet og det andre deler spill i Howel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7960" y="19051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638680" y="2362320"/>
            <a:ext cx="1295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362320"/>
            <a:ext cx="1524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20968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286000"/>
            <a:ext cx="10666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0552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94520" y="1942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58160" y="327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2551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43760" y="258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31880" y="252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648320"/>
            <a:ext cx="1143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(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4648320"/>
            <a:ext cx="12189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(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920" y="426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19720" y="563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024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0552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132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8696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99360" y="44956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426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24480" y="563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3800" y="38088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emp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tt inn svansebord (2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ieturneringer der alle spiller samme spill i ru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ringene i oppsettet angår bare de to bord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Brow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dre antall bord     +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dre antall sittepar  +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ye slipper og bordkort for 2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ridgehus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to bordene bytter spill i ru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lytteanvisningen endres slik at de som skal til en plass der et par sitter fast går til tilsvarende plass på svansebordet, og deretter etter plan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grampakk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03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Willy Browns program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Samarbeider med Sven Prans slip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ABC-Data sine program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Firkløverdata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Jan Henriksens program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Bar , Laserbar, Blekkba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Serieturneri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a 2 til 60 bord inklusive blindtar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a 1 til 20 spill pr rund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kriver ut plansjer, slipper på eget format, resultatslipper, stensil HTML filer o.s.v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onrad, Laserm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radturnering for inntil 80 (110) p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eie trekningsrutin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ssering i neste runde på slipp og resultatlis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kriver ut plansjer, slipper på eget format, resultatslipper, stensil HTML filer o.s.v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Willy Brown’s lagprogram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t enkelt og liketil lagprogra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sett  Serie eller Monr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 eller uten automatisk V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ner kvot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er opp tab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Tips om WB pro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nngå lange filnavn med å legge programmet i mappe C:\BAR eller D:\B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ntroller at programmet virker sammen med printeren. Det styrer selv printerutskriften fra DO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serbar og Lasermon til Laserskriver. Det hender at programmet må kjøres fra DOS for å unngå problemer med urtskriften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ær nøyaktig ved inntasting i programmene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 kan arrangeres f.eks BoforsMitchell eller vanlig Mitchell ved å angi rett antall sittepar og la sitteparene være nummerert fra NS1 og oppov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t skriver ut slipper i et eget formar på slipper i bane. NBF har gått over til perforerte slipper som skrives ut fra WB med Sven Prans program ”Slipper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aget av Thorvald Aagård i Danmark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grampakken er skrevet på dansk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grammene kan lastes ned gratis fra net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ne er skrevet i DOS, men er i senere tid omarbeidet for bruk i Window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d oppsett av turnering legges startposisjoner for alle runder in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te gjør det mulig å arrangere turneringer med andre enn de tradisjonelle flyttemønstre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gelprogrammet er god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itchell og Howell er O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rdplansjene inneholder flytteanvisning for hver rund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 skriver ut slipper på vanlig papir som så må kutt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t lager HTML mal og filer for utlegg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eg har for liten erfaring med programmet til å kunne gi en rettferdig beskrivels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ne anbefales for de som skal arrangere singel og spesielle par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irkløv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indowsbasert parturneringsprogra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llater punching fra flere mask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river ut til tekstfiler m.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ytter NBF sine standardslipp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løpig kun serie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21:43Z</dcterms:created>
  <dc:creator>Per Nordland</dc:creator>
  <dc:description/>
  <dc:language>en-US</dc:language>
  <cp:lastModifiedBy>Per Nordland</cp:lastModifiedBy>
  <dcterms:modified xsi:type="dcterms:W3CDTF">2001-01-31T22:26:29Z</dcterms:modified>
  <cp:revision>5</cp:revision>
  <dc:subject/>
  <dc:title>Turneringsregnskap</dc:title>
</cp:coreProperties>
</file>