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04A-9E8F-4237-A044-C4EB4623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B7F-5C0B-4FD9-8359-F5F6380A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AB0-07D3-4C38-B83E-EFDCFEF9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6CA-5B4D-475C-85E7-5A4A07AA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1310-8FD5-435F-A10D-9B875FE4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E96B-D598-4F4E-BA2D-63B5D194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E85F-1240-4788-97C9-69D462AB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FF1C-FF7D-4F33-B8DF-18CB6AB7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B04-03EB-408B-AD41-B718BEA4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E087-A4EB-4006-B72F-12D38AC4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353F-0A2C-4187-9C34-20A58DA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6C9-E980-44D7-91BA-D3104833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C59-26DF-4D01-BD96-155FAA96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AA50-961A-48E2-9F2A-67BEE7B1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F35D-B860-4093-B67D-21ABDA0A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CE1C-0094-4A63-9C48-AC4A68F1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FE83-566F-4A7E-A75F-A3504486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1B3-33F1-4529-8B19-85F5F7FB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FFE-45DB-4696-96EC-273F055D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B96-13C1-4FFB-A744-9A87ECB6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E91-1828-4EB3-B049-5C7A40E5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AD7-5315-44B5-A2AA-1C9342D1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F00-2E38-413C-99F9-73B0B38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E3E-274A-4961-9525-0AF940F1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F9AC-422A-4188-9062-EEE3D06503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F3D6-002B-46CE-8474-59E9F6F3A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EE8-6D16-4CAA-999E-51ED9C5CFD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657C-4D14-4DDC-B966-A7E8064FA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ar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r med dataprogramm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FAC5-FC6C-4E0E-B9BA-71A365214A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390E56D-36D0-490D-BC13-1E67B9718F4E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e spill må spilles i en sesjon (kan ta en kort pause) for å unngå fri flyt av urettmessig informasj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psett for 4-12 bord (14-46 spill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st brukt er 4 – 7 bord med mindre enn 30 spil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grammene kan bruke Blindtar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8C5-0A1A-4A69-B1C4-500B661785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7EAE7-FFDF-438E-8AF2-5D04995DA158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ometerturnering finnes i alle programm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ringer på en dag eller helg  med 2-4 spill pr.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tid med forhåndsdublerte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ubbturneringer med 8-12 spill pr ru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blering etter at spillet er spilt første gang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254-E5F6-4F26-B446-CDF598D310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D7976-CF1C-41EC-99FB-1D9338EA0003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onrad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beste møter de beste, kun ett mø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og BK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blerte s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ør bruke minst 3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øte 25-50 % etter reglementet (helst ned mot 25%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olig er 30 runder alltid no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art med 2-3 runder som er forhåndstrukk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s pr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B72-B9DB-4D7F-8B9B-1B0DCFAB03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B1CB1-A544-4CF3-B671-116DE1EC750C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itch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tandard er er to rekker i hver sin ret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oppsett i Tävlingsledaren kan bruk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alanserte” turneringer med 4 eller flere grupper (rekker) som møter hverandre etter Howellprinsipper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B33-BFF9-40A1-B26B-DC859CFB1D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A0ADB-2BFB-4128-9FDF-F72AB848F820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ndre ”parturnering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utlerscoring av lagkamp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ut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 av egen score mot Butl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= middelscore evt uten høyeste og laveste score(r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regne IMP mot alle andre bord og bruke summ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le total IMP på antall sammenlign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47D-46EC-47CE-93F5-AE7F7732E5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976F4-B96D-4127-9799-A96BD390FD84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20:11:03Z</dcterms:created>
  <dc:creator>Per Nordland</dc:creator>
  <dc:description/>
  <dc:language>en-US</dc:language>
  <cp:lastModifiedBy>Per Nordland</cp:lastModifiedBy>
  <dcterms:modified xsi:type="dcterms:W3CDTF">2001-09-25T18:21:19Z</dcterms:modified>
  <cp:revision>6</cp:revision>
  <dc:subject/>
  <dc:title>Parturneringer</dc:title>
</cp:coreProperties>
</file>