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B5F0-2970-4AF8-94AA-485E9FA0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CE1-31F5-4D32-85A2-296BB579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46B-C7C8-44BB-9A01-CC19FF0B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563F-91F6-49D7-AA3D-4B40AF42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3A72-6D8D-44CC-B9C6-6C7BB812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7DEA-9B0A-4FDE-9EF5-89D373B7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39D1-87DF-4346-B9E8-D98577C8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FA52-01DB-4902-9B76-9BD59B4D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372B-0161-44CC-BAB6-79A5C41A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9AF9-5006-4267-ADA8-7DA0ABB7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0317-A623-4618-94AE-2CA5B898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2FC1-EC07-4B14-ACD0-CF2DD476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B0DD-EFE5-4687-9007-1CAEAA61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08D6-496F-4276-A58C-D1AC1E0E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12C5-2BE8-4C8F-9AF9-F12A8C66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EE4D-F4D4-47B8-B63D-F03DB85B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D984-FBF6-410C-ACF1-40A7DCDD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7772-5BFC-4EC8-8E28-1C09D40D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E8BC-C212-4ADE-91E7-546203E6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22D-D4B5-4D3A-9DDD-195596D2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3B6F-AFD9-4D56-88F0-DB5B4AAB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9749-CDD9-4B1B-BC82-06DF404A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F70-F284-4C03-91AE-083C261E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1C2D-4E6A-4E4F-9542-18A5F77E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C161-D005-41CB-8578-BB087919D4B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A108-4DD1-4EE9-8CE8-4F8DF53FA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6351-C5EC-4634-9329-05AC3BC3C69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411B-DD71-429D-ACB7-7A6FB6FFC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ingel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m aktuelle turneringsoppset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48FA-CE2A-4941-AA3C-0BEDA852694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7C30DF6-2A1C-418D-98B3-D2E6435592A2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Om singel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Singelturneringer er ofte barometerturneringer der alle spiller alle spill før spillerne flytter mellom b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Tävlingsledaren har Howell og Mitchelloppsett for et stort  antall spillere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Den sportslige verdien av slike turneringer er begre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Det er sterkt varierende styrke på spillerne innen makkerpar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2B9-C56A-4D27-BBBF-F1B2B3B85EA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C63F4-E96C-4206-8C4C-C3FBFA37BB53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gnskapsprogramm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urneringshjæl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anuelt oppsett på fritt grunnla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utomatisk oppsett med Prans Ske.exe i en pulje med 8-54 spille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utomatisk oppsett i like puljer inntil 40 bor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Henriksen (excelbas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Oppsett i grupper for 48-120 spille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Oppsett enkle for 8-54 spille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Frie oppsett kan gjør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coreslipp i vanlig forma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3057-645E-4F80-9574-0507066795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ABD1A-0E3F-4AB9-A6D8-C34919A9B1F2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Forventninger om program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K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erieoppsett  for 8-54 spille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Puljevise oppsett for inntil 100 bor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onradoppsett for inntil hundre bor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Tre runder på hvert bord (4-1, 2-3) (4-2, 1-3) (4-3, 1-2)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Runde 4-5-6 trekkes etter runde 2. Runde 7,8,9 trekkes etter runde 5 (Runde 10,11,12 trekkes etter runde 8)  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Velge antall møter fritt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C01C-DACC-4E74-9C6A-A3148BE5D9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8F3F7-0DE7-4F8F-9DEB-392D81A16DD7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Aktuelle oppsettsmulighet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Serieoppse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Tabeller i Tävlingsledaren i en gruppe eller flere grupper (Henriksen for grupper 48-120 spillere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rowns program SINSTA</a:t>
            </a:r>
            <a:br>
              <a:rPr sz="2400"/>
            </a:b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Mitchelloppset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En rekke sitter rolig de tre andre beveger seg i utak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14E9-65BF-4F48-B183-F5E6ACBBF9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72A55-96BD-4804-9F35-03136E95FFA2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14:42:54Z</dcterms:created>
  <dc:creator>Per Nordland</dc:creator>
  <dc:description/>
  <dc:language>en-US</dc:language>
  <cp:lastModifiedBy>Per Nordland</cp:lastModifiedBy>
  <dcterms:modified xsi:type="dcterms:W3CDTF">2002-01-20T22:21:16Z</dcterms:modified>
  <cp:revision>5</cp:revision>
  <dc:subject/>
  <dc:title>Singelturneringer</dc:title>
</cp:coreProperties>
</file>