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E31-0D7F-435F-BDF9-31CCE2D6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DA9-E141-4F21-9234-158F1B5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2DB-D200-431F-AD94-13DF46DB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053-74D7-4D14-B918-F1F14F4E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3E0A-05AA-4063-A881-A5E7BD81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9B2-853F-4E1D-913D-863BFD6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40C-43D0-4099-9F2D-55B84D4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70F-AE5A-4F8C-934C-0DD1A847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3BC9-0A4B-46CB-A8E5-600FB58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9B25-ADC1-46C0-B8C1-A2AD974B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F29B-7FD6-42E8-AB11-DA9F8C6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4B2-A4D2-40E7-8E87-8266D622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A33B-EE13-4C30-9D5D-5FA243A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79F-26C7-4A00-961D-705FCA3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6E34-B9C1-4569-85BB-22DEAF2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7636-68DE-4180-849C-3182DDD4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7238-C004-46F6-A563-F10C523D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0A-5159-4FF7-99C0-41EBA4CE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3D8-EEAB-4AD1-A3BA-B9032279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212-DFE8-4697-85FB-F3FB1AF1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583-F61E-49F3-B0C3-87F8EEBF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84B-6FCF-4ACC-BDFD-76844BCF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9F8-F8A3-4D72-AAC9-C837EA4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2CD-E766-424B-B2CA-C873569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430-43F3-457A-8C4E-4D721EB398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257-A1F6-4B33-8E62-C85E8DF0A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4D00-B63B-4706-85AB-C6612B334D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D4C-080C-4E5D-AAC2-14F8C9574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ne er man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033F-C510-4DDF-85E1-C88A116E0D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31A25E-E64F-49E3-8AF9-9EDD37378019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oppsett for barometer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Høyest /lavest metode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alanse oppnås ved at man ved noen bord setter paret med lavest parnummer 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te er beregnet i tabeller som finnes i den store boken om bevegelser ”Tävlingsledaren” av Hans Olof Hallén med medarbeider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som følger med dataprogrammer skal settes opp etter denne tabellene i denne boken  (Tabellene i BAR er like gode, men de kan være litt endre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C3F-E4D1-4DBC-8764-33CA06AC11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BDC77-00A6-45C3-B677-A4200CAF6F05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kstra bord ”Blindtarm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rukes i Howellturneringer og Serie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 inn ett ekstra bord, og to nye par som sitter rolig. Parene som beveger seg beholder retningen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3809880"/>
          <a:ext cx="6858000" cy="23209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 + Blindt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F2A-96D7-46FC-81AF-D2DA17B09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D457-9C42-4B3C-AD12-21EA57A61BE4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n av ”blindtarm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ord kan settes inn ved bord der det ikke er et sittepar. Greit å ty til i barometerturneringer med ferdige plansjer og slipper.             Endring av plansjer og slipper angår kun dette bordet + ekstraborde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alansen mellom sitteparene og de som beveger seg er go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 er nødvendig å endre retning i noen runder for å få noe balanse mellom sitteparene. Vi ser at en turnering med mange blindtarmer kan bli en turnering med 3 pulj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beveger s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Ø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lindtarmene reduserer antall runder i turnering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9 bord uten blindtarmer &gt;&gt;&gt; 17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5 bord pluss 4 blindtarmer &gt;&gt;&gt; 9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Par med høyere startnummer enn NS bord 1 er si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E92-B74F-4308-877E-25DC15E6C2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33DD-E3E5-4C07-9C5A-9109D95BB3A8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ne spilles i rekkefølge på alle bord og alle møter al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rter med laveste spillnummer på bo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runder som kan spilles er lik antall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spill totalt blir da: Spill i runden x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rne og spillene plasseres slik at dette er mulig.        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se tabeller hos Hallé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t finnes tabeller med høyest /lavest prinsipp og andre tabeller der spillerne går ”mer enn ett b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353-B693-4E51-AA9D-EB0714D514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A259-F62E-493F-9A0A-1DCFC4568D80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Howell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o grupper kan spille de samme spill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bbel Ho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parallelle rekker spiller spillene samtidig og bord med samme nummer bytter spill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vevd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rekker spiller med en rundes forskyvning slik at bare noen få bord bytter spill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dusert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e et lavere bordantall med flere blindtarmbord i stedet for full turnering. Blindtarmbord og opprinnelig bord deler spill Turneringen kan også være avbrut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37F-753C-4A8F-A685-89296FC235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11512-843E-495D-B4CE-B8B944A361BE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Mitchel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en deles i puljer slik at antallet mulige runder i en omgang ikke er mye større enn antallet spilte rund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es ut i to resultatlister en for NS og en for ØV. Eventuelle puljer summeres sammen dersom de har spilt de samme spill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ed et likt antall bord så flyttes det to bord etter runde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yttebord slik Hallén beskriver det mellom bord N/2 og og bord (N/2+1) brukes lite ute i verde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0FD-563B-4848-BA7E-64434DE058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5475-12DB-49DD-A6BB-27C321392253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Mitchell 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varierende retn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ingdansmitchell for turnering mellom kl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oforsmitchell for å balansere opp til en resultatliste på en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mange omga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Flere puljer (samme deltakere i pulj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 omgangene flyttes rekkene etter et barometeroppsett noe som gir god balanse i sluttresultat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B2D-2399-493F-901D-F69A381E3F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39CE8-9C57-4912-9D71-78F0C2C3CD64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ler flere par på l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pillere spiller sammen i hele turn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erne skifter makker etter hver r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rie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,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 ulik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rekker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nere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129-3BDA-45C5-9B24-9EBFB73F30EC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CA4F2-BFEE-46E1-9F37-9ED584F217E4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seri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ystemet i divi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tsse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ometerturneringer for 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 for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pne 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rieturnering i klub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bbturnering over flere kvelder med et fast antall 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anligste er 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BBD-BBE9-4253-9564-38B74752DD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03CB7-53D1-401E-B015-9934E3615E58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møter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ne flyttes et bord ned og spilles i rekkefølge på bor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resultat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 (Swis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e som er nært hverandre på resultatlisten møtes. Alle spiller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form der spillene leveres et bord ned og spilles i rekkefølge ved bordene (fra 1 &gt;&gt;N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ne deles i to  gr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En gruppe f.eks NS sitter rol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Den andre gruppen går til det neste høyere bordet (fra N &gt;&gt;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30F-023F-4D37-A553-4BA246865FB3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7A8FB-4724-40B9-B82C-35B928BC307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nkurrans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å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t mulig poeng til egen side når resultatene sammen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beregnes s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ekkverdi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tgangsbon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lill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stor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kkverdiene gies til det syvende stikket og oppov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for kløver og r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or hjerter og spar og senere sti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for første tre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4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gang når meldt trekkverdi inklusive D eller RD er 100 eller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78E-25F7-4A94-90DA-18D7A939429B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085E4-749E-4EFE-A665-33D8AD8134DE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oen turneringsbegre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sgruppe i par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par i gruppen som sitter i samme retning på et 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tchpoi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 poeng for alle scorer i samme retning som er dårli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poeng for alle lik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 poeng for alle bedr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nternasjonale matchpoi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orskjellen mellom to scorer avleses i en ta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/Datum et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gjennomsnittsscore (enten med alle eller uten topp og bunn) som score sammenlign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across the fiel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ammenligning med alle bord evt. delt på antall sammenlig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8AF-CE21-4358-A69E-B9A44FD04F8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C26C5-91D4-4198-8C4A-F0A10DB92B05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mbinasjon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s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er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itchel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onra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ings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MP  &gt;&gt;&gt; V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atchpoint mellom 2 bord brukes i ”Board a mat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le oppsettsmetoder kan kombineres med matchpoint eller med IMP (som butler eller across the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oppsettene er serie (og matchpoint), men mye kan forsø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858-A15B-4E51-9FD9-F15914711E3A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C3665-110F-4699-AE39-4A8938C255B2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psett av 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ltakeren med det høyeste nummeret sitter alltid på bord 1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 andre deltakerne flytter etter deltakeren med et nummer lavere (deltakeren med nest høyest nummer går etter nr 1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øyest/lavest metod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 lagturnering og pa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1 (N)    – 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2 (N-1) – 2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3 (N-2) – 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erfekt bala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e i samme scoringsgruppe som et hvilket som helst annet par i halvparten av rund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alvparten hjemmekamper i lagturn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D96-4381-40D4-9BC5-4C30D21646EF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9089-A329-4C97-889E-FE00F7CA8C26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 lagserie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øyest / lavest metod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et som sitter på bord 1 har hjemmekamp i runde 1 til N/2 og bortekamp i resten av rund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dene spilles i rekkefølgen: 1, (n/2+1), 2, (n/2+2), 3, (n/2+3), 4, (n/2+4) …os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oppsettet gir at alle veksler mellom hjemmekamp og bortek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slik runde er en enkel serie og det er det vanlige i Bridgeturne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180-7E2C-47BA-8F61-7CD04819A4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916EA-1C86-4A23-BBEE-C13A4D61AE21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50:37Z</dcterms:created>
  <dc:creator>Per Nordland</dc:creator>
  <dc:description/>
  <dc:language>en-US</dc:language>
  <cp:lastModifiedBy>Per Nordland</cp:lastModifiedBy>
  <dcterms:modified xsi:type="dcterms:W3CDTF">2002-06-02T07:46:51Z</dcterms:modified>
  <cp:revision>14</cp:revision>
  <dc:subject/>
  <dc:title>Turneringsformer</dc:title>
</cp:coreProperties>
</file>